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ricochet.wav" ContentType="audio/x-wav"/>
  <Override PartName="/ppt/media/image16.jpeg" ContentType="image/jpeg"/>
  <Override PartName="/ppt/media/image7.gif" ContentType="image/gif"/>
  <Override PartName="/ppt/media/whoosh.wav" ContentType="audio/x-wav"/>
  <Override PartName="/ppt/media/image9.wmf" ContentType="image/x-wmf"/>
  <Override PartName="/ppt/media/image6.gif" ContentType="image/gif"/>
  <Override PartName="/ppt/media/laser.wav" ContentType="audio/x-wav"/>
  <Override PartName="/ppt/media/image4.png" ContentType="image/png"/>
  <Override PartName="/ppt/media/image1.gif" ContentType="image/gif"/>
  <Override PartName="/ppt/media/image10.gif" ContentType="image/gif"/>
  <Override PartName="/ppt/media/image8.wmf" ContentType="image/x-wmf"/>
  <Override PartName="/ppt/media/cashreg.wav" ContentType="audio/x-wav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explode.wav" ContentType="audio/x-wav"/>
  <Override PartName="/ppt/media/image15.png" ContentType="image/png"/>
  <Override PartName="/ppt/media/image13.jpeg" ContentType="image/jpeg"/>
  <Override PartName="/ppt/media/image12.png" ContentType="image/png"/>
  <Override PartName="/ppt/media/image11.png" ContentType="image/png"/>
  <Override PartName="/ppt/media/image19.jpeg" ContentType="image/jpeg"/>
  <Override PartName="/ppt/media/image14.jpeg" ContentType="image/jpeg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3E7C-7D31-4F83-B5F9-BB406D5EE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A83-AD0E-45BF-9C9C-09EB39C3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161-BD38-40E3-B9C8-4C77A79F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E3E-B4EF-4292-B8A2-F5FA16F0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EE5-908E-4845-BE14-351FF11E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1CE6-587D-4DF5-8C81-608E2DAB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7227-829C-4467-824C-D6D799E8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CAA3-1FFB-449C-8661-E2E567BA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2667-D18B-49E8-8167-1FD81D17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FB60-FEB6-459C-B4DD-82DBD2B0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812B-7D63-4CCC-AF70-B43F58B6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89C8-76F1-45A5-B2F4-A15E9FF2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F36-755D-4B58-AF85-DCC41840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4A1C-D5B7-42CA-B7F1-7EA46CA3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9031-4657-49C2-921C-D75B9218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D273-F765-4F08-8FBD-E736AE81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A873-4ECF-4A28-A303-364DBC92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790A-8C1B-4EDF-B40E-957DDEE1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539-ED96-49F3-9791-8CE4BAB1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F4E-5B4B-40FC-A51A-5843D48F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1E7-6A11-4EE9-9CFE-6A872848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3C6-20FC-4802-B9F7-918A1E48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A66-CBD4-409F-8C0A-0601A562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C2E-449D-4C56-A7BC-850A4260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93E-BF27-4312-A171-AE9E54E0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A94D-239C-467D-A014-E44A3F5E47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C604-0B88-4C0A-9D5E-97B730A23A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5v54dmb5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gif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audio" Target="../media/ricochet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funny3-c.html" TargetMode="External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_thinkingcap.html" TargetMode="External"/><Relationship Id="rId2" Type="http://schemas.openxmlformats.org/officeDocument/2006/relationships/image" Target="../media/image1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On earth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the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Tinkerbell-2-1.gif image by durack_bucket"/>
          <p:cNvPicPr/>
          <p:nvPr/>
        </p:nvPicPr>
        <p:blipFill>
          <a:blip r:embed="rId1"/>
          <a:stretch/>
        </p:blipFill>
        <p:spPr>
          <a:xfrm>
            <a:off x="3200400" y="1905120"/>
            <a:ext cx="3581280" cy="2517480"/>
          </a:xfrm>
          <a:prstGeom prst="rect">
            <a:avLst/>
          </a:prstGeom>
          <a:ln w="0">
            <a:noFill/>
          </a:ln>
        </p:spPr>
      </p:pic>
      <p:pic>
        <p:nvPicPr>
          <p:cNvPr id="108" name="Ink 10" descr=""/>
          <p:cNvPicPr/>
          <p:nvPr/>
        </p:nvPicPr>
        <p:blipFill>
          <a:blip r:embed="rId2"/>
          <a:stretch/>
        </p:blipFill>
        <p:spPr>
          <a:xfrm>
            <a:off x="45306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09" name="Ink 11" descr=""/>
          <p:cNvPicPr/>
          <p:nvPr/>
        </p:nvPicPr>
        <p:blipFill>
          <a:blip r:embed="rId3"/>
          <a:stretch/>
        </p:blipFill>
        <p:spPr>
          <a:xfrm>
            <a:off x="5445000" y="6224760"/>
            <a:ext cx="84240" cy="83880"/>
          </a:xfrm>
          <a:prstGeom prst="rect">
            <a:avLst/>
          </a:prstGeom>
          <a:ln w="0">
            <a:noFill/>
          </a:ln>
        </p:spPr>
      </p:pic>
      <p:pic>
        <p:nvPicPr>
          <p:cNvPr id="110" name="Ink 12" descr=""/>
          <p:cNvPicPr/>
          <p:nvPr/>
        </p:nvPicPr>
        <p:blipFill>
          <a:blip r:embed="rId4"/>
          <a:stretch/>
        </p:blipFill>
        <p:spPr>
          <a:xfrm>
            <a:off x="59292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11" name="Ink 14" descr=""/>
          <p:cNvPicPr/>
          <p:nvPr/>
        </p:nvPicPr>
        <p:blipFill>
          <a:blip r:embed="rId5"/>
          <a:stretch/>
        </p:blipFill>
        <p:spPr>
          <a:xfrm>
            <a:off x="2755800" y="2109960"/>
            <a:ext cx="84240" cy="83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2"/>
          <p:cNvSpPr/>
          <p:nvPr/>
        </p:nvSpPr>
        <p:spPr>
          <a:xfrm flipV="1">
            <a:off x="639720" y="764640"/>
            <a:ext cx="0" cy="521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630360" y="59832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30360" y="1716120"/>
            <a:ext cx="8305560" cy="3352320"/>
            <a:chOff x="630360" y="1716120"/>
            <a:chExt cx="8305560" cy="3352320"/>
          </a:xfrm>
        </p:grpSpPr>
        <p:sp>
          <p:nvSpPr>
            <p:cNvPr id="174" name="Line 5"/>
            <p:cNvSpPr/>
            <p:nvPr/>
          </p:nvSpPr>
          <p:spPr>
            <a:xfrm flipV="1">
              <a:off x="630360" y="4078080"/>
              <a:ext cx="1676160" cy="99036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2306520" y="4078440"/>
              <a:ext cx="198144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V="1">
              <a:off x="4287960" y="2706840"/>
              <a:ext cx="1904760" cy="137160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6192720" y="2706840"/>
              <a:ext cx="167652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V="1">
              <a:off x="7869240" y="1716120"/>
              <a:ext cx="1066680" cy="99072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2382840" y="2989440"/>
            <a:ext cx="1844640" cy="1739520"/>
            <a:chOff x="2382840" y="2989440"/>
            <a:chExt cx="1844640" cy="1739520"/>
          </a:xfrm>
        </p:grpSpPr>
        <p:sp>
          <p:nvSpPr>
            <p:cNvPr id="180" name="Text Box 11"/>
            <p:cNvSpPr/>
            <p:nvPr/>
          </p:nvSpPr>
          <p:spPr>
            <a:xfrm>
              <a:off x="2475000" y="2989440"/>
              <a:ext cx="1752480" cy="173952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lt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reezing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</a:t>
              </a:r>
              <a:r>
                <a:rPr b="0" lang="en-US" sz="2400" spc="-1" strike="noStrike">
                  <a:solidFill>
                    <a:srgbClr val="ffffe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2382840" y="3621240"/>
              <a:ext cx="18288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sol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liqu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5911920" y="1655640"/>
            <a:ext cx="2286000" cy="1678680"/>
            <a:chOff x="5911920" y="1655640"/>
            <a:chExt cx="2286000" cy="1678680"/>
          </a:xfrm>
        </p:grpSpPr>
        <p:sp>
          <p:nvSpPr>
            <p:cNvPr id="183" name="Text Box 14"/>
            <p:cNvSpPr/>
            <p:nvPr/>
          </p:nvSpPr>
          <p:spPr>
            <a:xfrm>
              <a:off x="5911920" y="1655640"/>
              <a:ext cx="2286000" cy="167868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oil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ndensing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6249960" y="2278080"/>
              <a:ext cx="15955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liqu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 rot="16207800">
            <a:off x="-955800" y="2705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7210440" y="59817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230652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428796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619272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786924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2"/>
          <p:cNvGrpSpPr/>
          <p:nvPr/>
        </p:nvGrpSpPr>
        <p:grpSpPr>
          <a:xfrm>
            <a:off x="767520" y="3859560"/>
            <a:ext cx="1183680" cy="1908000"/>
            <a:chOff x="767520" y="3859560"/>
            <a:chExt cx="1183680" cy="1908000"/>
          </a:xfrm>
        </p:grpSpPr>
        <p:sp>
          <p:nvSpPr>
            <p:cNvPr id="192" name="Text Box 23"/>
            <p:cNvSpPr/>
            <p:nvPr/>
          </p:nvSpPr>
          <p:spPr>
            <a:xfrm rot="19737600">
              <a:off x="806760" y="4111200"/>
              <a:ext cx="110484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sol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4"/>
            <p:cNvGrpSpPr/>
            <p:nvPr/>
          </p:nvGrpSpPr>
          <p:grpSpPr>
            <a:xfrm>
              <a:off x="950760" y="5132520"/>
              <a:ext cx="965520" cy="635040"/>
              <a:chOff x="950760" y="5132520"/>
              <a:chExt cx="965520" cy="635040"/>
            </a:xfrm>
          </p:grpSpPr>
          <p:sp>
            <p:nvSpPr>
              <p:cNvPr id="194" name="Rectangle 25"/>
              <p:cNvSpPr/>
              <p:nvPr/>
            </p:nvSpPr>
            <p:spPr>
              <a:xfrm>
                <a:off x="950760" y="5132520"/>
                <a:ext cx="965520" cy="63504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6"/>
              <p:cNvSpPr/>
              <p:nvPr/>
            </p:nvSpPr>
            <p:spPr>
              <a:xfrm>
                <a:off x="152388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7"/>
              <p:cNvSpPr/>
              <p:nvPr/>
            </p:nvSpPr>
            <p:spPr>
              <a:xfrm>
                <a:off x="1387440" y="538632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8"/>
              <p:cNvSpPr/>
              <p:nvPr/>
            </p:nvSpPr>
            <p:spPr>
              <a:xfrm>
                <a:off x="124920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9"/>
              <p:cNvSpPr/>
              <p:nvPr/>
            </p:nvSpPr>
            <p:spPr>
              <a:xfrm>
                <a:off x="1111320" y="538632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166212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152388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1387440" y="551340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124920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1111320" y="551340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166212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152388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1387440" y="564048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38"/>
              <p:cNvSpPr/>
              <p:nvPr/>
            </p:nvSpPr>
            <p:spPr>
              <a:xfrm>
                <a:off x="124920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39"/>
              <p:cNvSpPr/>
              <p:nvPr/>
            </p:nvSpPr>
            <p:spPr>
              <a:xfrm>
                <a:off x="1111320" y="564048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40"/>
              <p:cNvSpPr/>
              <p:nvPr/>
            </p:nvSpPr>
            <p:spPr>
              <a:xfrm>
                <a:off x="166212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Group 41"/>
          <p:cNvGrpSpPr/>
          <p:nvPr/>
        </p:nvGrpSpPr>
        <p:grpSpPr>
          <a:xfrm>
            <a:off x="4586400" y="2504160"/>
            <a:ext cx="1312560" cy="2069280"/>
            <a:chOff x="4586400" y="2504160"/>
            <a:chExt cx="1312560" cy="2069280"/>
          </a:xfrm>
        </p:grpSpPr>
        <p:sp>
          <p:nvSpPr>
            <p:cNvPr id="211" name="Text Box 42"/>
            <p:cNvSpPr/>
            <p:nvPr/>
          </p:nvSpPr>
          <p:spPr>
            <a:xfrm rot="19412400">
              <a:off x="4596480" y="2842920"/>
              <a:ext cx="129240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liq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3"/>
            <p:cNvGrpSpPr/>
            <p:nvPr/>
          </p:nvGrpSpPr>
          <p:grpSpPr>
            <a:xfrm>
              <a:off x="4871880" y="3722760"/>
              <a:ext cx="889200" cy="850680"/>
              <a:chOff x="4871880" y="3722760"/>
              <a:chExt cx="889200" cy="850680"/>
            </a:xfrm>
          </p:grpSpPr>
          <p:sp>
            <p:nvSpPr>
              <p:cNvPr id="213" name="Rectangle 44"/>
              <p:cNvSpPr/>
              <p:nvPr/>
            </p:nvSpPr>
            <p:spPr>
              <a:xfrm>
                <a:off x="4871880" y="3722760"/>
                <a:ext cx="889200" cy="85068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5"/>
              <p:cNvSpPr/>
              <p:nvPr/>
            </p:nvSpPr>
            <p:spPr>
              <a:xfrm>
                <a:off x="5430960" y="417348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6"/>
              <p:cNvSpPr/>
              <p:nvPr/>
            </p:nvSpPr>
            <p:spPr>
              <a:xfrm>
                <a:off x="527832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7"/>
              <p:cNvSpPr/>
              <p:nvPr/>
            </p:nvSpPr>
            <p:spPr>
              <a:xfrm>
                <a:off x="5024520" y="409716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522756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52531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487188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55069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52275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53"/>
              <p:cNvSpPr/>
              <p:nvPr/>
            </p:nvSpPr>
            <p:spPr>
              <a:xfrm>
                <a:off x="512604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54"/>
              <p:cNvSpPr/>
              <p:nvPr/>
            </p:nvSpPr>
            <p:spPr>
              <a:xfrm>
                <a:off x="487188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55"/>
              <p:cNvSpPr/>
              <p:nvPr/>
            </p:nvSpPr>
            <p:spPr>
              <a:xfrm>
                <a:off x="51260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56"/>
              <p:cNvSpPr/>
              <p:nvPr/>
            </p:nvSpPr>
            <p:spPr>
              <a:xfrm>
                <a:off x="5456160" y="4299120"/>
                <a:ext cx="12708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57"/>
              <p:cNvSpPr/>
              <p:nvPr/>
            </p:nvSpPr>
            <p:spPr>
              <a:xfrm>
                <a:off x="5380200" y="444816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58"/>
              <p:cNvSpPr/>
              <p:nvPr/>
            </p:nvSpPr>
            <p:spPr>
              <a:xfrm>
                <a:off x="50752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59"/>
              <p:cNvSpPr/>
              <p:nvPr/>
            </p:nvSpPr>
            <p:spPr>
              <a:xfrm>
                <a:off x="4923000" y="437364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60"/>
              <p:cNvSpPr/>
              <p:nvPr/>
            </p:nvSpPr>
            <p:spPr>
              <a:xfrm>
                <a:off x="48718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61"/>
              <p:cNvSpPr/>
              <p:nvPr/>
            </p:nvSpPr>
            <p:spPr>
              <a:xfrm>
                <a:off x="550692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62"/>
              <p:cNvSpPr/>
              <p:nvPr/>
            </p:nvSpPr>
            <p:spPr>
              <a:xfrm>
                <a:off x="563400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63"/>
              <p:cNvSpPr/>
              <p:nvPr/>
            </p:nvSpPr>
            <p:spPr>
              <a:xfrm>
                <a:off x="5608800" y="4299120"/>
                <a:ext cx="126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64"/>
              <p:cNvSpPr/>
              <p:nvPr/>
            </p:nvSpPr>
            <p:spPr>
              <a:xfrm>
                <a:off x="558324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5"/>
              <p:cNvSpPr/>
              <p:nvPr/>
            </p:nvSpPr>
            <p:spPr>
              <a:xfrm>
                <a:off x="49989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6"/>
              <p:cNvSpPr/>
              <p:nvPr/>
            </p:nvSpPr>
            <p:spPr>
              <a:xfrm>
                <a:off x="5380200" y="409716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7"/>
              <p:cNvSpPr/>
              <p:nvPr/>
            </p:nvSpPr>
            <p:spPr>
              <a:xfrm>
                <a:off x="53546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8"/>
          <p:cNvGrpSpPr/>
          <p:nvPr/>
        </p:nvGrpSpPr>
        <p:grpSpPr>
          <a:xfrm>
            <a:off x="7898040" y="1405800"/>
            <a:ext cx="1123560" cy="2024640"/>
            <a:chOff x="7898040" y="1405800"/>
            <a:chExt cx="1123560" cy="2024640"/>
          </a:xfrm>
        </p:grpSpPr>
        <p:grpSp>
          <p:nvGrpSpPr>
            <p:cNvPr id="238" name="Group 69"/>
            <p:cNvGrpSpPr/>
            <p:nvPr/>
          </p:nvGrpSpPr>
          <p:grpSpPr>
            <a:xfrm>
              <a:off x="7898040" y="1405800"/>
              <a:ext cx="968400" cy="2024640"/>
              <a:chOff x="7898040" y="1405800"/>
              <a:chExt cx="968400" cy="2024640"/>
            </a:xfrm>
          </p:grpSpPr>
          <p:sp>
            <p:nvSpPr>
              <p:cNvPr id="239" name="Text Box 70"/>
              <p:cNvSpPr/>
              <p:nvPr/>
            </p:nvSpPr>
            <p:spPr>
              <a:xfrm rot="19098600">
                <a:off x="7938360" y="1642320"/>
                <a:ext cx="887400" cy="4597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66"/>
                    </a:solidFill>
                    <a:latin typeface="Arial"/>
                  </a:rPr>
                  <a:t>g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71"/>
              <p:cNvSpPr/>
              <p:nvPr/>
            </p:nvSpPr>
            <p:spPr>
              <a:xfrm>
                <a:off x="829620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72"/>
            <p:cNvGrpSpPr/>
            <p:nvPr/>
          </p:nvGrpSpPr>
          <p:grpSpPr>
            <a:xfrm>
              <a:off x="8005680" y="2681280"/>
              <a:ext cx="1015920" cy="749160"/>
              <a:chOff x="8005680" y="2681280"/>
              <a:chExt cx="1015920" cy="749160"/>
            </a:xfrm>
          </p:grpSpPr>
          <p:sp>
            <p:nvSpPr>
              <p:cNvPr id="242" name="Rectangle 73"/>
              <p:cNvSpPr/>
              <p:nvPr/>
            </p:nvSpPr>
            <p:spPr>
              <a:xfrm>
                <a:off x="8005680" y="2681280"/>
                <a:ext cx="1015920" cy="74916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74"/>
              <p:cNvSpPr/>
              <p:nvPr/>
            </p:nvSpPr>
            <p:spPr>
              <a:xfrm>
                <a:off x="8440560" y="2681280"/>
                <a:ext cx="1461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75"/>
              <p:cNvSpPr/>
              <p:nvPr/>
            </p:nvSpPr>
            <p:spPr>
              <a:xfrm>
                <a:off x="8296200" y="2981160"/>
                <a:ext cx="1443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76"/>
              <p:cNvSpPr/>
              <p:nvPr/>
            </p:nvSpPr>
            <p:spPr>
              <a:xfrm>
                <a:off x="8005680" y="2981160"/>
                <a:ext cx="14472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77"/>
              <p:cNvSpPr/>
              <p:nvPr/>
            </p:nvSpPr>
            <p:spPr>
              <a:xfrm>
                <a:off x="8005680" y="3281400"/>
                <a:ext cx="14472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78"/>
              <p:cNvSpPr/>
              <p:nvPr/>
            </p:nvSpPr>
            <p:spPr>
              <a:xfrm>
                <a:off x="887724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79"/>
              <p:cNvSpPr/>
              <p:nvPr/>
            </p:nvSpPr>
            <p:spPr>
              <a:xfrm>
                <a:off x="8877240" y="2830680"/>
                <a:ext cx="144360" cy="150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80"/>
              <p:cNvSpPr/>
              <p:nvPr/>
            </p:nvSpPr>
            <p:spPr>
              <a:xfrm>
                <a:off x="8556480" y="3130560"/>
                <a:ext cx="146160" cy="150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– heating curve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Changes of state – cooling curve ac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444600" y="99072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99072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activ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7" name="ShockwaveFlash1"/>
          <p:cNvGraphicFramePr/>
          <p:nvPr/>
        </p:nvGraphicFramePr>
        <p:xfrm>
          <a:off x="457200" y="990720"/>
          <a:ext cx="838188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838188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00120" y="1752480"/>
            <a:ext cx="854388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All substances are made up of particles (atoms, ions or molecu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are attracted to each other, some strongly and others wea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move around (i.e. have </a:t>
            </a:r>
            <a:r>
              <a:rPr b="1" lang="en-GB" sz="2800" spc="-1" strike="noStrike">
                <a:solidFill>
                  <a:srgbClr val="010066"/>
                </a:solidFill>
                <a:latin typeface="Arial"/>
              </a:rPr>
              <a:t>kinetic</a:t>
            </a: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 energ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 kinetic energy of particles increases with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he particle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0" y="30492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 Black"/>
                <a:hlinkClick r:id="rId1"/>
              </a:rPr>
              <a:t>TIME FOR A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emperature and ener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teacher's notes icon"/>
          <p:cNvPicPr/>
          <p:nvPr/>
        </p:nvPicPr>
        <p:blipFill>
          <a:blip r:embed="rId2"/>
          <a:stretch/>
        </p:blipFill>
        <p:spPr>
          <a:xfrm>
            <a:off x="6804000" y="119160"/>
            <a:ext cx="539640" cy="5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ShockwaveFlash1"/>
          <p:cNvGraphicFramePr/>
          <p:nvPr/>
        </p:nvGraphicFramePr>
        <p:xfrm>
          <a:off x="762120" y="1600200"/>
          <a:ext cx="8078760" cy="453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8078760" cy="4535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762120" y="2209680"/>
            <a:ext cx="803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cc"/>
                </a:solidFill>
                <a:latin typeface="Arial"/>
              </a:rPr>
              <a:t>Evaporation</a:t>
            </a: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 occurs when the particles in a liquid escape to form a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685800" y="3429000"/>
            <a:ext cx="81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Evaporation can occur at any temperature but it occurs most rapidly at a liquid’s boiling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73200" y="5181480"/>
            <a:ext cx="84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The particles that escape take some energy from the remaining particles and so the temperature of the liquid f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What is evaporatio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219320" y="609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A.</a:t>
            </a: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21200" y="2895480"/>
            <a:ext cx="7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80880" y="5867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????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Picture12-2.png image by durack_bucket"/>
          <p:cNvPicPr/>
          <p:nvPr/>
        </p:nvPicPr>
        <p:blipFill>
          <a:blip r:embed="rId1"/>
          <a:stretch/>
        </p:blipFill>
        <p:spPr>
          <a:xfrm>
            <a:off x="2971800" y="304920"/>
            <a:ext cx="4191120" cy="2019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ontwanna.gif image by durack_bucket"/>
          <p:cNvPicPr/>
          <p:nvPr/>
        </p:nvPicPr>
        <p:blipFill>
          <a:blip r:embed="rId2"/>
          <a:stretch/>
        </p:blipFill>
        <p:spPr>
          <a:xfrm>
            <a:off x="3429000" y="243828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2007-04-20_140856_polar_bear.gif image by durack_bucket"/>
          <p:cNvPicPr/>
          <p:nvPr/>
        </p:nvPicPr>
        <p:blipFill>
          <a:blip r:embed="rId3"/>
          <a:stretch/>
        </p:blipFill>
        <p:spPr>
          <a:xfrm>
            <a:off x="3429000" y="47242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a1060.g.akamaitech.net/7/1060/34/5110e79ab4c490/school.discovery.com/clipart/images/ani-wrld.gif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2444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0948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in the world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33"/>
                </a:solidFill>
                <a:latin typeface="Snap ITC"/>
              </a:rPr>
              <a:t>Matter is…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5" descr="ani-girl"/>
          <p:cNvPicPr/>
          <p:nvPr/>
        </p:nvPicPr>
        <p:blipFill>
          <a:blip r:embed="rId1"/>
          <a:stretch/>
        </p:blipFill>
        <p:spPr>
          <a:xfrm>
            <a:off x="533520" y="4668840"/>
            <a:ext cx="2209680" cy="2189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820880" y="198108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A. Anything that m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96920" y="2895480"/>
            <a:ext cx="50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Anything that tak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up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066680" y="43434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Something that cries</a:t>
            </a: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438280" y="533520"/>
            <a:ext cx="46483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3300"/>
                </a:solidFill>
                <a:latin typeface="Snap ITC"/>
              </a:rPr>
              <a:t>B.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53352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Anything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that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takes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up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space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327672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6553080" y="762120"/>
            <a:ext cx="115416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5"/>
          <a:stretch/>
        </p:blipFill>
        <p:spPr>
          <a:xfrm>
            <a:off x="7467480" y="281952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6"/>
          <a:stretch/>
        </p:blipFill>
        <p:spPr>
          <a:xfrm>
            <a:off x="4267080" y="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Smileyyougogirl.gif image by durack_bucket"/>
          <p:cNvPicPr/>
          <p:nvPr/>
        </p:nvPicPr>
        <p:blipFill>
          <a:blip r:embed="rId7"/>
          <a:stretch/>
        </p:blipFill>
        <p:spPr>
          <a:xfrm>
            <a:off x="304920" y="45720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funny3-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049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0" y="457200"/>
            <a:ext cx="26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661000" y="380880"/>
            <a:ext cx="33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041120" y="4038480"/>
            <a:ext cx="7285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Snap ITC"/>
              </a:rPr>
              <a:t>Of matter are…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28576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960720" y="2657520"/>
            <a:ext cx="693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2160720" y="2666880"/>
            <a:ext cx="20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Sol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391800" y="2743200"/>
            <a:ext cx="24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Liqu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1868400" y="5562720"/>
            <a:ext cx="21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Ga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2" descr="vapourclouds"/>
          <p:cNvPicPr/>
          <p:nvPr/>
        </p:nvPicPr>
        <p:blipFill>
          <a:blip r:embed="rId1"/>
          <a:stretch/>
        </p:blipFill>
        <p:spPr>
          <a:xfrm>
            <a:off x="1523880" y="3809880"/>
            <a:ext cx="2659320" cy="161784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0" name="Picture 33" descr="solidsnow"/>
          <p:cNvPicPr/>
          <p:nvPr/>
        </p:nvPicPr>
        <p:blipFill>
          <a:blip r:embed="rId2"/>
          <a:stretch/>
        </p:blipFill>
        <p:spPr>
          <a:xfrm>
            <a:off x="1905120" y="533520"/>
            <a:ext cx="2573280" cy="16192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1" name="Picture 34" descr="liquidlake"/>
          <p:cNvPicPr/>
          <p:nvPr/>
        </p:nvPicPr>
        <p:blipFill>
          <a:blip r:embed="rId3"/>
          <a:stretch/>
        </p:blipFill>
        <p:spPr>
          <a:xfrm>
            <a:off x="6548400" y="609480"/>
            <a:ext cx="2595600" cy="16210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</p:spTree>
  </p:cSld>
  <p:transition spd="slow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330033"/>
                </a:solidFill>
                <a:latin typeface="Snap ITC"/>
              </a:rPr>
              <a:t>How does matter change?</a:t>
            </a:r>
            <a:endParaRPr b="0" lang="en-US" sz="6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029200"/>
            <a:ext cx="930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Put on you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thinking cap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ani_thinkingc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057400"/>
            <a:ext cx="2024280" cy="29750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p:transition spd="slow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35160" y="2819520"/>
            <a:ext cx="13647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sol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839760" y="2819520"/>
            <a:ext cx="15339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liq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74760" y="2895480"/>
            <a:ext cx="105408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1755360" y="2514600"/>
            <a:ext cx="1985040" cy="771480"/>
            <a:chOff x="1755360" y="2514600"/>
            <a:chExt cx="1985040" cy="771480"/>
          </a:xfrm>
        </p:grpSpPr>
        <p:sp>
          <p:nvSpPr>
            <p:cNvPr id="159" name="Line 7"/>
            <p:cNvSpPr/>
            <p:nvPr/>
          </p:nvSpPr>
          <p:spPr>
            <a:xfrm>
              <a:off x="1974240" y="3284640"/>
              <a:ext cx="16761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755360" y="2514600"/>
              <a:ext cx="198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melt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1526400" y="3657600"/>
            <a:ext cx="2161080" cy="703440"/>
            <a:chOff x="1526400" y="3657600"/>
            <a:chExt cx="2161080" cy="703440"/>
          </a:xfrm>
        </p:grpSpPr>
        <p:sp>
          <p:nvSpPr>
            <p:cNvPr id="162" name="Line 10"/>
            <p:cNvSpPr/>
            <p:nvPr/>
          </p:nvSpPr>
          <p:spPr>
            <a:xfrm flipH="1" flipV="1">
              <a:off x="1528560" y="3713400"/>
              <a:ext cx="21589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1526400" y="3657600"/>
              <a:ext cx="21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freez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5410080" y="2590920"/>
            <a:ext cx="2158920" cy="752400"/>
            <a:chOff x="5410080" y="2590920"/>
            <a:chExt cx="2158920" cy="752400"/>
          </a:xfrm>
        </p:grpSpPr>
        <p:sp>
          <p:nvSpPr>
            <p:cNvPr id="165" name="Line 13"/>
            <p:cNvSpPr/>
            <p:nvPr/>
          </p:nvSpPr>
          <p:spPr>
            <a:xfrm>
              <a:off x="5410080" y="3341880"/>
              <a:ext cx="21589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5468400" y="2590920"/>
              <a:ext cx="184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boil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4651200" y="3657600"/>
            <a:ext cx="3024360" cy="703440"/>
            <a:chOff x="4651200" y="3657600"/>
            <a:chExt cx="3024360" cy="703440"/>
          </a:xfrm>
        </p:grpSpPr>
        <p:sp>
          <p:nvSpPr>
            <p:cNvPr id="168" name="Line 16"/>
            <p:cNvSpPr/>
            <p:nvPr/>
          </p:nvSpPr>
          <p:spPr>
            <a:xfrm>
              <a:off x="5076720" y="3757680"/>
              <a:ext cx="215928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4651200" y="3657600"/>
              <a:ext cx="30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condens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Changes of state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4:33:43Z</dcterms:created>
  <dc:creator>Johnny Ferry</dc:creator>
  <dc:description/>
  <dc:language>en-US</dc:language>
  <cp:lastModifiedBy>RomaK</cp:lastModifiedBy>
  <dcterms:modified xsi:type="dcterms:W3CDTF">2015-09-03T12:31:20Z</dcterms:modified>
  <cp:revision>39</cp:revision>
  <dc:subject/>
  <dc:title>PowerPoint Presentation</dc:title>
</cp:coreProperties>
</file>